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684-AF7F-47E1-917A-3BDBF819A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current land use policies make sen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under alternative land use scenar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hensive plans need fiscal reality to be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demands for service likely to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rvice levels likely to deterior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ertain levels of service likely to increas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36F-2F45-4385-BBD8-AED79880BA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5652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337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6095880"/>
            <a:ext cx="565200" cy="5716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Growing Pains: Getting A Handle on the Cost of Growth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44370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International City/County Management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. Carson Bise II, AICP, Vice 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chler &amp; Associates,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Benefit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of land use and budget consid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of the fiscal impacts of different scenarios and/or development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ly demands for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ital facility i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for an enhanced level of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-If”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for long-term borrowing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Methodologi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cost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s on per capita/per employ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n’t consider available infrastructure capac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ks timing of new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Methodologies </a:t>
            </a: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-marginal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alis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on local levels of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capacities usually determine the staging of capital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ted operating expenses ref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Basic Step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multiple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happens if anticipated development doesn’t occur as plan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scenario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tre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er or delayed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e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development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ing mix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Basic Step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enario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totals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ing by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ment by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residential square footage by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fiscal analysis zones when and where possible (i.e. developed vs. vaca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s from which to reflect unique 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Basic Step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level of service data for costs and reven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rives each cost/reven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emaining capacity of capital facilit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fisc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resulting costs to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graphic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General Perception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dential development doesn’t pay for its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residential development is a cash c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Influencing Factor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ion formu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life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capac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 of new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oeconom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ss receipts t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553080" cy="4038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tax by place of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705720" cy="4038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Tischler &amp; Associates, Inc.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039080" cy="4564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distribution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238880" cy="40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ing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543800" cy="3990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ing structure/housing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4048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46748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scenar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856560" cy="40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propos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3573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458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Case Examples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ex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867280" cy="33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iscal analysis relates future land use to cost of developme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 of u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knowledge and understanding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ly demands for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ital facility i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cost imp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, cumulative, average annual imp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Summary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lead to a better understanding of the relationships among the various factors contributing to the cost of growth and develop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guide land use policy dec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ment of “what if”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Types of Growth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ointed location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ment-based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ropolitan fringe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dentially-based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Summary </a:t>
            </a: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(continued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ed discussion can result in less polarized debate and more rational dec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ring a realistic sense of the costs of growth to the public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Growth Characteristic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508800" cy="360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Issues Facing Both As A Resul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of life issues come to the forefro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rastructure and service delivery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s for higher levels of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ing and oper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existing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growth cost and can we afford i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What is a Fiscal Impact Analysis?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growth or cash flow to the public sect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revenues generated by new growth enough to cover the resulting service and facility deman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s operating expenses, capital costs and reven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s annual, average annual and cumulative surpluses or defic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Economic Impact Analy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lects overall economy of the commun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d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ry factors are the construction phase and consumer s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resid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ry factors are job creation and real disposable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Planning Applications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ster plan scenar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zon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development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conomic development propos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Budget and Finance Application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-term financial planning (buildo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ital improvement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repla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foreca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l of service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23:07:14Z</dcterms:created>
  <dc:creator>pt</dc:creator>
  <dc:description/>
  <dc:language>en-US</dc:language>
  <cp:lastModifiedBy>Alison Miller</cp:lastModifiedBy>
  <dcterms:modified xsi:type="dcterms:W3CDTF">2005-01-18T16:48:35Z</dcterms:modified>
  <cp:revision>122</cp:revision>
  <dc:subject/>
  <dc:title>About planning technologies…</dc:title>
</cp:coreProperties>
</file>