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180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en-US" sz="1000" spc="-1" strike="noStrike">
                <a:solidFill>
                  <a:srgbClr val="000000"/>
                </a:solidFill>
                <a:latin typeface="MarkingPen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81FA73-D599-4AE5-BB54-CD01EA18A1AD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D7F89FC-3F4F-4781-9704-250EFACCCA6C}" type="slidenum"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arkingPenHeav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990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401-E780-4CC5-AC22-5677AE0E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055-0292-479D-B5F0-CD85AE00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74D-1D33-4ADA-9172-00D4EF33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D9F-55AA-4B2B-895F-EFE4DA06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105-0EDD-4368-9FEC-1F0461C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6A4-E7AE-4E7A-A4FA-D30FFA3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88A-D741-44FA-905D-D674D12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BC0-2F0A-42D7-B874-1297E93A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38C-7629-4FC9-A6D8-235921B1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AF7-298D-4051-9B49-A5A859D2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442-5016-45B2-93BC-64F42D4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130-31F0-48A7-B064-64BEF16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83F-4616-4D71-BFC1-F2756228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76400" y="515628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MA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ober 19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712800"/>
            <a:ext cx="6781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l-State Relations:  You’ve Lost That Lovin’ Fe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Micromanagement of Local Affa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mes E. N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 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y of Ramsey, Minnes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1AD-3F04-48AE-838E-CA5195707D17}" type="slidenum">
              <a:t>1</a:t>
            </a:fld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gue of Minnesota C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3 City Chief Administrative Offic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Salar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entral 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nneapol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82,618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126,2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204,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ginia Beach, V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3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3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Moines, I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3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0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t. Lauderdale, F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9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76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lotte, N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2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68,6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klahoma City, O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61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ansas City, M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00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6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F71-8F38-4E61-8B51-44F6A974997A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uburb – 75,000 +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loomingt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85,17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$114,2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endale, A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7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89,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vada, C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89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77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llvue, W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9,9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ollton, T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8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4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and Park, 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2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3,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stminster, C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50,9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lington Heights, 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33,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oy, 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5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28,6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thfield, 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76,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$121,1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D42-DDB9-4424-9DF0-09C37AD262EB}" type="slidenum">
              <a:t>11</a:t>
            </a:fld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uburb – 25,000 – 75,000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04840"/>
            <a:ext cx="82296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. Louis Par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4,50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16,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 MN Citi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or below cap of $114,2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koki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1,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ffalo Grov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1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land Park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51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latin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8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wnee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5,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pevine, T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4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aumburg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9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3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wie, 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0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ffman Estates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er’s Grov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1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odridg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8,7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lmette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8,7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athe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21,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win, 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8,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 Springs, 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7,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keny, 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7,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bandale, 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4,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54A-C944-4D83-B2BA-7E5F6235F711}" type="slidenum">
              <a:t>12</a:t>
            </a:fld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estand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ches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90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lu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86,0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08,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 Clou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,30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101,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t Collins,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8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52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wa City, 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44,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s, 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7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7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 Arbor, 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7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mont,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52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3,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gstaff, A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6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2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oint, 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9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32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heville, 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3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6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sville, W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52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24,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atur, 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84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18,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A60-E9A2-40FD-96AF-0474BBDC007B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Recent Comparison Prepared by Paul Reaume and Associates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For Dakota County Administrator Salary Cap App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ens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opul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udget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ilford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4,7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5,3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4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syth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3,77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0,18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dgwick Co, 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38,7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6,6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4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nt Co, 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1,74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80,33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ke Co, 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3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61,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shtenaw Co, 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7,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6,6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6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vard Co, F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41,08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6,23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4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 of Des Moines, 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7,4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,6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5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ty of Wichita Falls, T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60,7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4,19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ity of Colorado Spg., CO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82,9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0,89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8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awba Co, N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76,99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1,68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tler Co, 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13,77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7,0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Comp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58,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kota Co, M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$118,28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63,86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1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get numbers are in mill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729-DF1E-43FE-8F45-1D65F9F3BFED}" type="slidenum">
              <a:t>14</a:t>
            </a:fld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3884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ntrol – The authority of local elected officials to make decisions for public good without undue interference by the state or federal gover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268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ing fathers created a system in which public responsibilities were divided among national, state, and local governm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concentration of power in on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ust local issues to local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only issues of broad national or state interest are decided by more distant gover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CD6-2163-41F2-8151-AE255F8A33E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ons of th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cities and counties are creations of the state, all authority that cities exercise ultimately comes from the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many of the decisions by state or federal officials to mandate or pre-empt local actions have broad public support, citizens rate local governments as the most trusted and accountable level of gover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offs inherent in decisions to pre-empt loc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ty vs. local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efficiency vs. local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ability and control vs. experimentation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E9E-5986-496C-A112-C61FA52AB036}" type="slidenum">
              <a:t>3</a:t>
            </a:fld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 of Mandates or Pre-emption of Local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-use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 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y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th in Tax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ary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FD4-5C3C-4C96-9C01-2319204A15B5}" type="slidenum">
              <a:t>4</a:t>
            </a:fld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d Use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ries of proposals were drafted during the 2004 Legislative session that would severely restrict cities’ ability to conduct thoughtful, comprehensive pla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Conforming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Mor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nen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Zoning Fees and D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13C-5B96-4BCC-9D9D-B057D4A60D33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hibited Gif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9028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ed and appointed “local officials” may not receive gifts from any “interested pers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“interested person” is a person, or representative of a person or association, who has a direct financial interest in a decision that a local official is authorized to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520-2A19-495F-9D9B-61E8B936A7B7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vy Limits and Free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y limits restrict the amount of property taxes (the primary revenue source) cities and counties may levy for general purpose expendi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6 of the past 31 years, the Legislature has restricted property tax le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3, the Minnesota Legislature cut aid to cities by almost 25% and imposed the strictest freeze in state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OR (Taxpayer Bill of Rights) modeled after Colorado state law.  Would constitutionally limit government spending and revenues by a pre-determined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077-4FB6-48C4-9A25-4073A4E113A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uth-In-Tax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13080"/>
            <a:ext cx="82296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tate mandated requirements of notices and hearings for proposed property tax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istory and descri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225-FEC8-4006-90A0-1AED771121E6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ary “Ca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nesota is the only state in the nation that imposes a limit on local government compens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ention and Recruitment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lnerable to recruitment from other states (depletion of “talent” 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ment for new employees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ncentive to “move up” to top-level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 compression between middle-management and top-level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660-E81E-450C-A2DD-BB1CE2DB4578}" type="slidenum">
              <a:t>9</a:t>
            </a:fld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04Z</dcterms:created>
  <dc:creator>cindy gates</dc:creator>
  <dc:description/>
  <dc:language>en-US</dc:language>
  <cp:lastModifiedBy>Alison Miller</cp:lastModifiedBy>
  <cp:lastPrinted>1998-02-19T23:09:47Z</cp:lastPrinted>
  <dcterms:modified xsi:type="dcterms:W3CDTF">2005-01-18T21:50:14Z</dcterms:modified>
  <cp:revision>211</cp:revision>
  <dc:subject/>
  <dc:title>No Slide Title</dc:title>
</cp:coreProperties>
</file>