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i="1" lang="en-US" sz="1000" spc="-1" strike="noStrike">
                <a:solidFill>
                  <a:srgbClr val="000000"/>
                </a:solidFill>
                <a:latin typeface="MarkingPen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8584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i="1" lang="en-US" sz="1000" spc="-1" strike="noStrike">
                <a:solidFill>
                  <a:srgbClr val="000000"/>
                </a:solidFill>
                <a:latin typeface="MarkingPenHeav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i="1" lang="en-US" sz="1000" spc="-1" strike="noStrike">
                <a:solidFill>
                  <a:srgbClr val="000000"/>
                </a:solidFill>
                <a:latin typeface="MarkingPen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B798F53-8485-4276-9BFF-992EF3ADFF0A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B3E9A15-A33D-4681-8300-02BB643C6FC7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7A3E661-7FFB-44F9-A5E3-08FA239BB78F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0D9B163-B2F9-4024-B34B-674C18B1CDF5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0F5C2E8-5309-41E4-8A7C-A7ABC41134B6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7F2E95D-8391-4DF9-91B0-EFAEFF971428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09D62C1-934A-4DA7-A302-6B692728C311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214ED96-967F-480D-9FB8-C5F3757DFFE6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F5B3385-7898-41F8-A32D-6E9EA7C33DFA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A96237A-070F-4352-A72E-05E00CA558B5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38EE30E-E94E-4643-A41B-963F60BBB169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01D-0E06-4791-B4A3-3D0C4066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C46-0F3B-47D9-9A5E-13488B4E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411-0A10-4EEB-9569-810E5F0A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EA8-AED8-40CB-8459-D08CA797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41B9-ED94-4CDB-ABE2-8657ED6E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1DBA-5CBE-4C08-AEBE-357FDD31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89C0-3B58-496B-9F95-6F203B72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19DD-7AC4-43A0-A2E7-A35842A9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F46A-C0D6-4D1C-A66B-45CE6448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9869-5CD5-4225-930F-D3D612B1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34EB-D536-478B-882D-A65F5BEF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06FD-0F0D-4017-BFAF-D7D0977C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486F-72B7-4AB2-80D6-E846A3AB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9182-4F9D-463B-9329-5A89907B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96E9-E3F1-4E52-BD89-BF9D4DC4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DA01-39EA-4777-8976-B05AA6E0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DF07-C3C6-4951-A7A2-DE1A69EB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35D4-EC7E-463C-9B09-73CEFF99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667-3D55-461B-9CAB-3A8311FD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BBA-5B2C-4992-8502-F25F5B4D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2BD-BA0F-4222-AE63-ADABB6A7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CF6-F19E-4D5A-B1AC-EB8872A9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02E-ABDC-4FB1-B358-833B2C8A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B93-52B2-48B8-A97C-0324A945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B228-7986-4FEB-A327-55B6682F38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CDD3-D183-482C-81F9-0397EC56551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876400" y="434304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n Diego, Califor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tober 19,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712800"/>
            <a:ext cx="678168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International City / County Management Association Annual Conferen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4148-9D3A-421B-962B-472967619F3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14360" y="490680"/>
            <a:ext cx="6369120" cy="628164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5932440" y="957240"/>
            <a:ext cx="2336760" cy="2298600"/>
            <a:chOff x="5932440" y="957240"/>
            <a:chExt cx="2336760" cy="2298600"/>
          </a:xfrm>
        </p:grpSpPr>
        <p:pic>
          <p:nvPicPr>
            <p:cNvPr id="44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932440" y="957240"/>
              <a:ext cx="233676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6530040" y="1679400"/>
              <a:ext cx="127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64600" y="2225880"/>
              <a:ext cx="114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DO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 txBox="1"/>
          <p:nvPr/>
        </p:nvSpPr>
        <p:spPr>
          <a:xfrm>
            <a:off x="534960" y="976320"/>
            <a:ext cx="121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970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148440" y="1938240"/>
            <a:ext cx="1887120" cy="366840"/>
            <a:chOff x="6148440" y="1938240"/>
            <a:chExt cx="1887120" cy="366840"/>
          </a:xfrm>
        </p:grpSpPr>
        <p:sp>
          <p:nvSpPr>
            <p:cNvPr id="451" name=""/>
            <p:cNvSpPr/>
            <p:nvPr/>
          </p:nvSpPr>
          <p:spPr>
            <a:xfrm>
              <a:off x="7484760" y="19382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21240" y="19382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54840" y="19382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84840" y="19382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6640" y="19382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48440" y="19382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46840" y="19382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DF8-DE0F-4074-881B-CE1F5859AE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01760" y="492120"/>
            <a:ext cx="6369120" cy="62802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522360" y="987480"/>
            <a:ext cx="121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980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934240" y="954000"/>
            <a:ext cx="2336760" cy="2298960"/>
            <a:chOff x="5934240" y="954000"/>
            <a:chExt cx="2336760" cy="2298960"/>
          </a:xfrm>
        </p:grpSpPr>
        <p:pic>
          <p:nvPicPr>
            <p:cNvPr id="461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934240" y="954000"/>
              <a:ext cx="2336760" cy="22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6531840" y="1676160"/>
              <a:ext cx="127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66400" y="2222640"/>
              <a:ext cx="114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DO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6149880" y="1949400"/>
            <a:ext cx="1887480" cy="366840"/>
            <a:chOff x="6149880" y="1949400"/>
            <a:chExt cx="1887480" cy="366840"/>
          </a:xfrm>
        </p:grpSpPr>
        <p:sp>
          <p:nvSpPr>
            <p:cNvPr id="465" name=""/>
            <p:cNvSpPr/>
            <p:nvPr/>
          </p:nvSpPr>
          <p:spPr>
            <a:xfrm>
              <a:off x="7485840" y="19494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23040" y="19494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56280" y="19494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86280" y="19494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18080" y="19494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49880" y="19494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48640" y="19494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274B-0928-4BF5-AB89-F071323A884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08240" y="488880"/>
            <a:ext cx="6379920" cy="62978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528480" y="987480"/>
            <a:ext cx="121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990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5940360" y="954000"/>
            <a:ext cx="2336760" cy="2298960"/>
            <a:chOff x="5940360" y="954000"/>
            <a:chExt cx="2336760" cy="2298960"/>
          </a:xfrm>
        </p:grpSpPr>
        <p:pic>
          <p:nvPicPr>
            <p:cNvPr id="47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940360" y="954000"/>
              <a:ext cx="2336760" cy="22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6537960" y="1676160"/>
              <a:ext cx="127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72520" y="2222640"/>
              <a:ext cx="114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DO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141960" y="1935000"/>
            <a:ext cx="1887480" cy="366840"/>
            <a:chOff x="6141960" y="1935000"/>
            <a:chExt cx="1887480" cy="366840"/>
          </a:xfrm>
        </p:grpSpPr>
        <p:sp>
          <p:nvSpPr>
            <p:cNvPr id="479" name=""/>
            <p:cNvSpPr/>
            <p:nvPr/>
          </p:nvSpPr>
          <p:spPr>
            <a:xfrm>
              <a:off x="747792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1512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94836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7836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1016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4196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74072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E5D-7B98-45D1-956B-AF249F98DC9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01760" y="492120"/>
            <a:ext cx="6386400" cy="62946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522360" y="987480"/>
            <a:ext cx="121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000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942160" y="950760"/>
            <a:ext cx="2336760" cy="2298600"/>
            <a:chOff x="5942160" y="950760"/>
            <a:chExt cx="2336760" cy="2298600"/>
          </a:xfrm>
        </p:grpSpPr>
        <p:grpSp>
          <p:nvGrpSpPr>
            <p:cNvPr id="489" name=""/>
            <p:cNvGrpSpPr/>
            <p:nvPr/>
          </p:nvGrpSpPr>
          <p:grpSpPr>
            <a:xfrm>
              <a:off x="5942160" y="950760"/>
              <a:ext cx="2336760" cy="2298600"/>
              <a:chOff x="5942160" y="950760"/>
              <a:chExt cx="2336760" cy="2298600"/>
            </a:xfrm>
          </p:grpSpPr>
          <p:pic>
            <p:nvPicPr>
              <p:cNvPr id="490" name="" descr="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>
                <a:off x="5942160" y="950760"/>
                <a:ext cx="233676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"/>
              <p:cNvSpPr/>
              <p:nvPr/>
            </p:nvSpPr>
            <p:spPr>
              <a:xfrm>
                <a:off x="6539760" y="1672920"/>
                <a:ext cx="1277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POPUL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74320" y="2219400"/>
                <a:ext cx="11480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ODOME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6148440" y="1936440"/>
              <a:ext cx="1887480" cy="366840"/>
              <a:chOff x="6148440" y="1936440"/>
              <a:chExt cx="1887480" cy="366840"/>
            </a:xfrm>
          </p:grpSpPr>
          <p:sp>
            <p:nvSpPr>
              <p:cNvPr id="494" name=""/>
              <p:cNvSpPr/>
              <p:nvPr/>
            </p:nvSpPr>
            <p:spPr>
              <a:xfrm>
                <a:off x="7484400" y="193644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221600" y="193644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954840" y="193644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684840" y="193644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416640" y="193644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148440" y="193644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747200" y="193644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143760" y="1931760"/>
              <a:ext cx="1887120" cy="366840"/>
              <a:chOff x="6143760" y="1931760"/>
              <a:chExt cx="1887120" cy="366840"/>
            </a:xfrm>
          </p:grpSpPr>
          <p:sp>
            <p:nvSpPr>
              <p:cNvPr id="502" name=""/>
              <p:cNvSpPr/>
              <p:nvPr/>
            </p:nvSpPr>
            <p:spPr>
              <a:xfrm>
                <a:off x="74793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21692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94980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801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4119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1437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421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6143760" y="1931760"/>
              <a:ext cx="1887120" cy="366840"/>
              <a:chOff x="6143760" y="1931760"/>
              <a:chExt cx="1887120" cy="366840"/>
            </a:xfrm>
          </p:grpSpPr>
          <p:sp>
            <p:nvSpPr>
              <p:cNvPr id="510" name=""/>
              <p:cNvSpPr/>
              <p:nvPr/>
            </p:nvSpPr>
            <p:spPr>
              <a:xfrm>
                <a:off x="74793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21692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4980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801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4119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437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7421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6143760" y="1931760"/>
              <a:ext cx="1887120" cy="366840"/>
              <a:chOff x="6143760" y="1931760"/>
              <a:chExt cx="1887120" cy="366840"/>
            </a:xfrm>
          </p:grpSpPr>
          <p:sp>
            <p:nvSpPr>
              <p:cNvPr id="518" name=""/>
              <p:cNvSpPr/>
              <p:nvPr/>
            </p:nvSpPr>
            <p:spPr>
              <a:xfrm>
                <a:off x="74793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1692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4980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6801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4119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437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7421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efefe"/>
                    </a:solidFill>
                    <a:latin typeface="Arial Narrow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6143760" y="1931760"/>
              <a:ext cx="1887120" cy="366840"/>
              <a:chOff x="6143760" y="1931760"/>
              <a:chExt cx="1887120" cy="366840"/>
            </a:xfrm>
          </p:grpSpPr>
          <p:sp>
            <p:nvSpPr>
              <p:cNvPr id="526" name=""/>
              <p:cNvSpPr/>
              <p:nvPr/>
            </p:nvSpPr>
            <p:spPr>
              <a:xfrm>
                <a:off x="74793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21692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4980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6801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4119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1437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742160" y="1931760"/>
                <a:ext cx="28872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fe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465-DAB1-46D4-A6B9-B143FB82AAE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01760" y="487440"/>
            <a:ext cx="6386400" cy="63007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522360" y="973080"/>
            <a:ext cx="121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003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934240" y="954000"/>
            <a:ext cx="2336760" cy="2298960"/>
            <a:chOff x="5934240" y="954000"/>
            <a:chExt cx="2336760" cy="2298960"/>
          </a:xfrm>
        </p:grpSpPr>
        <p:pic>
          <p:nvPicPr>
            <p:cNvPr id="53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934240" y="954000"/>
              <a:ext cx="2336760" cy="22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6531840" y="1676160"/>
              <a:ext cx="127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66400" y="2222640"/>
              <a:ext cx="114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DO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140520" y="1940040"/>
            <a:ext cx="1887120" cy="366840"/>
            <a:chOff x="6140520" y="1940040"/>
            <a:chExt cx="1887120" cy="366840"/>
          </a:xfrm>
        </p:grpSpPr>
        <p:sp>
          <p:nvSpPr>
            <p:cNvPr id="540" name=""/>
            <p:cNvSpPr/>
            <p:nvPr/>
          </p:nvSpPr>
          <p:spPr>
            <a:xfrm>
              <a:off x="74761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1368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4656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6769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087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405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389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135480" y="1935000"/>
            <a:ext cx="1887480" cy="366840"/>
            <a:chOff x="6135480" y="1935000"/>
            <a:chExt cx="1887480" cy="366840"/>
          </a:xfrm>
        </p:grpSpPr>
        <p:sp>
          <p:nvSpPr>
            <p:cNvPr id="548" name=""/>
            <p:cNvSpPr/>
            <p:nvPr/>
          </p:nvSpPr>
          <p:spPr>
            <a:xfrm>
              <a:off x="74714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086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41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71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036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354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342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6135480" y="1935000"/>
            <a:ext cx="1887480" cy="366840"/>
            <a:chOff x="6135480" y="1935000"/>
            <a:chExt cx="1887480" cy="366840"/>
          </a:xfrm>
        </p:grpSpPr>
        <p:sp>
          <p:nvSpPr>
            <p:cNvPr id="556" name=""/>
            <p:cNvSpPr/>
            <p:nvPr/>
          </p:nvSpPr>
          <p:spPr>
            <a:xfrm>
              <a:off x="74714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086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941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71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036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354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342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6135480" y="1935000"/>
            <a:ext cx="1887480" cy="366840"/>
            <a:chOff x="6135480" y="1935000"/>
            <a:chExt cx="1887480" cy="366840"/>
          </a:xfrm>
        </p:grpSpPr>
        <p:sp>
          <p:nvSpPr>
            <p:cNvPr id="564" name=""/>
            <p:cNvSpPr/>
            <p:nvPr/>
          </p:nvSpPr>
          <p:spPr>
            <a:xfrm>
              <a:off x="74714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086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41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71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036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1354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342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efe"/>
                  </a:solidFill>
                  <a:latin typeface="Arial Narro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135480" y="1935000"/>
            <a:ext cx="1887480" cy="366840"/>
            <a:chOff x="6135480" y="1935000"/>
            <a:chExt cx="1887480" cy="366840"/>
          </a:xfrm>
        </p:grpSpPr>
        <p:sp>
          <p:nvSpPr>
            <p:cNvPr id="572" name=""/>
            <p:cNvSpPr/>
            <p:nvPr/>
          </p:nvSpPr>
          <p:spPr>
            <a:xfrm>
              <a:off x="74714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2086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941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71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036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54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7342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D54-CC2E-4B37-A530-12DB42947C6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139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 Rock National Conservation Area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01680" y="1141560"/>
            <a:ext cx="8537400" cy="55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3B5-717D-4F41-82C3-C9C59BBF54B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17784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 Rock Overlay District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06440" y="1095480"/>
            <a:ext cx="8334360" cy="539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B11-E7B6-4591-8D55-CDF9485FB5B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378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 Rock Overlay Distric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Mine Proper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82680" y="1243080"/>
            <a:ext cx="8427960" cy="545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F43-D093-4B3A-8979-62DB93AD51F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25640" y="-63720"/>
            <a:ext cx="724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 Rock Overlay Distric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94920" y="995400"/>
            <a:ext cx="7472520" cy="52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Protection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anded Existing Overlay District to include Environmentall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sitive Lands and Private Proper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 a super-majority vote for non-conforming zone change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 the Planning Commission and The Bo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sity and Land Use Regu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 and Encourage Clustering of Un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couraged Down Zo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mited First Floor Square Footage by Lot Siz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d Natural Building Envelope Around Un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ricted Wall Heights and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d Contiguous Natural and Open Are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251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blished Special Setback Distance from the Ridge 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194-A88D-48B6-9AA5-D4D3873A01C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25640" y="228240"/>
            <a:ext cx="724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posed State Legisl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660680" y="1453680"/>
            <a:ext cx="722304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priate Roles and Responsibilities of St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Coun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s vs. E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perative vs. Adversarial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y Sta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ion with County Commissio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ion with Bill Sponsor and Key Legisla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ion with Legislative Sta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ion with News Media, Public Interest Grou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Community Lea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5326-A279-46B7-85C3-7BDD9DEF8BE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035160" y="4228920"/>
            <a:ext cx="601992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hard B. Hol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istant County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rk County, Nev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4" name="" descr="Logo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7816680" y="5524560"/>
            <a:ext cx="952560" cy="9334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501480" y="712800"/>
            <a:ext cx="847728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tate Management of Local Affair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Managing the Micromanagers: State / Local Land Use Contro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E4DF-6AAB-4D5A-A5EE-ABA8A36A10E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25640" y="228600"/>
            <a:ext cx="7245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ccess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019240" y="1999800"/>
            <a:ext cx="6654960" cy="38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Legislation Passed – Endorsed by Clark County Com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d the Addition of New Requirements Impose by the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Legislature to Strengthen Local Land Use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AF5-3265-48D0-AAA7-486A029280B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25640" y="228600"/>
            <a:ext cx="724536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y Messa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622160" y="1676160"/>
            <a:ext cx="7257960" cy="44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s, You can Manage the Micromanager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hieve a Positive Out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the Scope of State Interv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nstrate the Advantages of a Cooperative State / Local Relation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Careful of a State / Local Partnership it may be very difficult to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8AB-E7A0-4E7F-851B-2C76B66C6A78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35120" y="1790280"/>
            <a:ext cx="72072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d Use Regulations Imposed by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on Loca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/ Local Partnership for Natural Resource 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Messages from Clark County 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20A-CB47-4DC5-B788-F5333ACE67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nd Use Regulation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posed by St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5200" y="2126880"/>
            <a:ext cx="830880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 Role of the State in Local Land Use Dec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Quiet Revolution in Land Use Control”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9728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as of Critical Environmental Conc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9728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sues of Greater than Local Signific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9728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of More than Local Imp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me Ru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llon’s R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vada – Dillon’s Rule, except for Zoning and Land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BF7-6768-4401-8E88-AFE09B1345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s of State Impos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nd Use Regulation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52320" y="2209680"/>
            <a:ext cx="73911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rida – Areas of Critical Environmental Conc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nt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reational Facilities and Seco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me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gon – Urban Growth A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achusetts – Costal and Inland Wetl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D60-5B6D-4550-96C2-EA0E04A7747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45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storic Population Growth: 1990 – 2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rk County and State of Nev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U.S. Census Bur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66760" y="1625760"/>
          <a:ext cx="85597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625760"/>
                    <a:ext cx="85597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75E-5763-4918-9EA7-7AF0385F1A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20840" y="140040"/>
            <a:ext cx="84200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rk County Population Forecast: 2004-20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The Center for Business and Economic Research (CBER) at UN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54160" y="1682640"/>
          <a:ext cx="8686800" cy="493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682640"/>
                    <a:ext cx="868680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B8A-7FD1-4C73-8B36-2BDFC316609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6140520" y="1940040"/>
            <a:ext cx="1887120" cy="366840"/>
            <a:chOff x="6140520" y="1940040"/>
            <a:chExt cx="1887120" cy="366840"/>
          </a:xfrm>
        </p:grpSpPr>
        <p:sp>
          <p:nvSpPr>
            <p:cNvPr id="409" name=""/>
            <p:cNvSpPr/>
            <p:nvPr/>
          </p:nvSpPr>
          <p:spPr>
            <a:xfrm>
              <a:off x="747684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133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4656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769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0836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405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38920" y="194004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03200" y="487440"/>
            <a:ext cx="6388200" cy="6300720"/>
          </a:xfrm>
          <a:prstGeom prst="rect">
            <a:avLst/>
          </a:prstGeom>
          <a:ln w="0">
            <a:noFill/>
          </a:ln>
        </p:spPr>
      </p:pic>
      <p:grpSp>
        <p:nvGrpSpPr>
          <p:cNvPr id="417" name=""/>
          <p:cNvGrpSpPr/>
          <p:nvPr/>
        </p:nvGrpSpPr>
        <p:grpSpPr>
          <a:xfrm>
            <a:off x="5934240" y="954000"/>
            <a:ext cx="2336760" cy="2298960"/>
            <a:chOff x="5934240" y="954000"/>
            <a:chExt cx="2336760" cy="2298960"/>
          </a:xfrm>
        </p:grpSpPr>
        <p:pic>
          <p:nvPicPr>
            <p:cNvPr id="418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934240" y="954000"/>
              <a:ext cx="2336760" cy="22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6531840" y="1676160"/>
              <a:ext cx="127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66400" y="2222640"/>
              <a:ext cx="114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DO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 txBox="1"/>
          <p:nvPr/>
        </p:nvSpPr>
        <p:spPr>
          <a:xfrm>
            <a:off x="522360" y="958680"/>
            <a:ext cx="1218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930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149880" y="1935000"/>
            <a:ext cx="1887480" cy="366840"/>
            <a:chOff x="6149880" y="1935000"/>
            <a:chExt cx="1887480" cy="366840"/>
          </a:xfrm>
        </p:grpSpPr>
        <p:sp>
          <p:nvSpPr>
            <p:cNvPr id="423" name=""/>
            <p:cNvSpPr/>
            <p:nvPr/>
          </p:nvSpPr>
          <p:spPr>
            <a:xfrm>
              <a:off x="748656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230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562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866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180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4988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48640" y="19350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11E-234A-49A7-882A-977FBD17C52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03200" y="471600"/>
            <a:ext cx="6373800" cy="6286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523800" y="971640"/>
            <a:ext cx="1219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950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5931000" y="957240"/>
            <a:ext cx="2336760" cy="2298600"/>
            <a:chOff x="5931000" y="957240"/>
            <a:chExt cx="2336760" cy="2298600"/>
          </a:xfrm>
        </p:grpSpPr>
        <p:pic>
          <p:nvPicPr>
            <p:cNvPr id="43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931000" y="957240"/>
              <a:ext cx="233676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6529320" y="1679400"/>
              <a:ext cx="1277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62800" y="2225520"/>
              <a:ext cx="114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DOME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105600" y="1924200"/>
            <a:ext cx="1887120" cy="366840"/>
            <a:chOff x="6105600" y="1924200"/>
            <a:chExt cx="1887120" cy="366840"/>
          </a:xfrm>
        </p:grpSpPr>
        <p:sp>
          <p:nvSpPr>
            <p:cNvPr id="437" name=""/>
            <p:cNvSpPr/>
            <p:nvPr/>
          </p:nvSpPr>
          <p:spPr>
            <a:xfrm>
              <a:off x="7441920" y="19242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78400" y="19242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12000" y="19242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42000" y="19242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73800" y="19242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05600" y="19242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04000" y="1924200"/>
              <a:ext cx="288720" cy="366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803-72CE-4BB1-92AE-CA979FC4932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04Z</dcterms:created>
  <dc:creator>cindy gates</dc:creator>
  <dc:description/>
  <dc:language>en-US</dc:language>
  <cp:lastModifiedBy>Alison Miller</cp:lastModifiedBy>
  <cp:lastPrinted>1998-02-19T23:09:47Z</cp:lastPrinted>
  <dcterms:modified xsi:type="dcterms:W3CDTF">2005-01-18T21:51:13Z</dcterms:modified>
  <cp:revision>204</cp:revision>
  <dc:subject/>
  <dc:title>No Slide Title</dc:title>
</cp:coreProperties>
</file>