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04C3-6BAA-453D-B3B8-E5CDD481E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dates/regs – Police pension (7% to 28%), Interstate patrols, official publications, fire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ations - $8.10, rollback (48% - $280 mil. loss over 10 yr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tion - $60 million in 03 mid year – Consolidated payments ( 2% of General Fund rev.) – like amount discussed for next year (Credit replacement pay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SG – St. Paul consultant, employed by State to reinvent government in Iow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ference – two day, State and local officials identified relationship problems and solutions: a)study to identify service delivery responsibilities for State/locals, b)Freedom Communities, c)add perf. measures to State’s strategic plan, d)annual conference on innovation &amp; perf. measur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mmittee – enhance relationship through quarterly discussions, incubator for policy ide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invention Update – e newsletter, best practices, status of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 – local gov’t page, best practices expanded, ads for PSG effo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orkshops – conducted by Committee to facilitate innovation, public safety collaboration, technology u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ech assistance – facilitate reinvention efforts (i.e. our Fire/EMS district) – one on one consul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edom Communities – eliminate collective bargaining in exchange for performance measurement (accountability), also looked at elimination of limitations, restoration of local pens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tructure – modify current citizen study and petition process (DM/Polk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back for $60 mil. 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ter and Sheldahl - $28,800 grant to study service sharing or merging in recreation, roadway maintenance, water &amp; sewer – also joint land 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nry- $50,000 grant/$100,000 loan to integrate criminal justice inf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in - $21,294 grant to pool City, County and Hospital resources for expanded CPR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ver - $7,500 grant to coordinate subdivision ordinances with County – also update utility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dar Rapids/Linn County - $33,000 grant/$11,000 loan to develop county-wide 24 hour accessible taxi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ve, et al - $100,000 loan to develop a fiber connection between cities for creation of joint Fire/EMS train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by Legislature in 2000 using gaming and tobacco settlement 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sh money into local economy in a manner that would leverage other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s vertical infrastructure related to recreation, educational, entertainment and cultural activ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on Iowa Board must have at least 2 mayors and a county supervisor on 13 member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B0B-B1F5-4B52-9314-EB9B9CD7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C61-CFA7-48FA-A9BE-80D92C24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9F3-E4D0-4A35-A867-F2366FBF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C66-B504-49F9-B3BA-A86D36EC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6F2-0FB7-40C3-B2C2-CA2F8D86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090-E9B8-44BB-BF5A-2AFDC501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EB6-C6CF-4940-9C87-D5FC9421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996-4D86-4E6C-BE1A-928181DF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0A6-E97E-45E1-91BD-48524134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E77-9936-4F4D-9DCF-655DE6DD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76C-3EF3-471B-BC57-4050938B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2A6-8C97-453C-AE90-062C2060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F905-8E25-4A7E-AE00-010C4AF02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711760"/>
            <a:ext cx="93996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owa.regov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te Micromanagement of Local Affai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4 ICMA Annual Con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b Lay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ity Manager – Urbandale, Iow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munity Attraction and Touris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139 projects – no minimum project cos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Funding range - $9,500 to $3.2 mill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quatic centers, community centers, museums, librarie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Rural Heritage Center (State Center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ll Season’s Recreation Center (Sioux Center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Library &amp; Community Center (Mount Pleasant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New Iowa Civic Center (Columbus Junction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te/Local Relationship – Iowa His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dates/regul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perty tax limit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 assistance redu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2251080"/>
            <a:ext cx="38098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rtnership Initia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lic Strategies Gro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cal Government Innovations Fu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sion Iowa Progr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9400" y="198108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blic Strategies Group (PSG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cal and State Relations Con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te – Local Steering Committ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einvention Upd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iowa.regov.or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sho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chnical assist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SG Legislative Recommend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duce mandates to cit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eat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reed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mmuniti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ke it easier to restructure local governm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und innovative restructur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local government flexibility and accountabil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tilize best practic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cal Government Innovations Fun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$975,000 loan &amp; grant fu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ater and Sheldahl - service sha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nry County - data integ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rdin County - CPR train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cal Government Innovations Fun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nver – subdivision ordinance coordin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dar Rapids/Linn County – accessible taxi ser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ve, Urbandale, West Des Moines – joint Fire/EMS trai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5240" y="1981080"/>
            <a:ext cx="30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ision Iowa Progra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Vision Iowa-$300 million for 20 year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CAT-$50 million for 4 yea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Encourage visionary thinking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Projects to promote tourism and community developmen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42840" y="1981080"/>
            <a:ext cx="329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868"/>
            </a:gs>
            <a:gs pos="100000">
              <a:srgbClr val="00a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ision Iow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1 projects – total cost &gt; $20 mill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unding range - $3.3 million to $70 mill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pital City Vision Project (Des Moine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erica’s River at the Port of Dubuq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gs to Do With a River View (Clint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1:46:17Z</dcterms:created>
  <dc:creator>rlayton</dc:creator>
  <dc:description/>
  <dc:language>en-US</dc:language>
  <cp:lastModifiedBy>Alison Miller</cp:lastModifiedBy>
  <dcterms:modified xsi:type="dcterms:W3CDTF">2005-01-18T21:52:19Z</dcterms:modified>
  <cp:revision>13</cp:revision>
  <dc:subject/>
  <dc:title>State Micromanagement of Local Affairs</dc:title>
</cp:coreProperties>
</file>